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635E-CF7F-4AB4-B460-1DC116169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XyxyXY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GF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4E64-4626-4BE2-8D91-DACFC7A6F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BDF7-B823-4BD6-B4FE-49A11F7E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7DF3-2126-4A75-9DBC-6FA63452D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3347-34CD-41E9-BEB3-417105875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0C8B-340D-421B-B172-7F2DF11F1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A1AC-20F1-441C-AEA5-3BF74696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8CE3-101B-4243-B9A3-587F732B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8351-88D5-4D2C-914D-A0A892E2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B6F1-74CE-44ED-8923-41D222DA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FE6E-CD71-4794-9908-FC341407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F41C-7679-4985-AF02-A56B9728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F997-2C8C-48E1-87AC-E451AD43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15DA-8D0A-49FB-A01D-835AC20D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D952-9B07-410C-AFD9-020D3849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ADFE-E59F-4953-A02E-C7E2934A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FF91-262C-4FB0-8A64-01B91C3D7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ACA0-4A6B-472E-8341-07A415398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FB7F-CF2C-4B13-89BF-52D84392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BE60-1C65-4BAE-B1E7-79AA6913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128E-8021-4278-BADC-B080E66F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5404-76E0-442C-882C-CF0E7DF7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69F8-E669-46A8-A541-02B93D1F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FD28-FE11-4C51-86F4-D000DA76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563C-7B1E-4A38-A01C-F06FC84F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F2BA-10A9-432F-B218-FE18C20577F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D26B-046E-4D1F-9F97-DA028CAFBDB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1800360" y="2016000"/>
            <a:ext cx="5471280" cy="2736000"/>
            <a:chOff x="1800360" y="2016000"/>
            <a:chExt cx="5471280" cy="2736000"/>
          </a:xfrm>
        </p:grpSpPr>
        <p:cxnSp>
          <p:nvCxnSpPr>
            <p:cNvPr id="158" name="_s2069"/>
            <p:cNvCxnSpPr>
              <a:stCxn id="159" idx="0"/>
              <a:endCxn id="160" idx="2"/>
            </p:cNvCxnSpPr>
            <p:nvPr/>
          </p:nvCxnSpPr>
          <p:spPr>
            <a:xfrm flipV="1" rot="16200000">
              <a:off x="5219640" y="2426400"/>
              <a:ext cx="547560" cy="1915560"/>
            </a:xfrm>
            <a:prstGeom prst="bentConnector3">
              <a:avLst>
                <a:gd name="adj1" fmla="val 499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" name="_s2068"/>
            <p:cNvCxnSpPr>
              <a:stCxn id="162" idx="0"/>
              <a:endCxn id="160" idx="2"/>
            </p:cNvCxnSpPr>
            <p:nvPr/>
          </p:nvCxnSpPr>
          <p:spPr>
            <a:xfrm rot="16200000">
              <a:off x="4262040" y="3384000"/>
              <a:ext cx="5475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3" name="_s2067"/>
            <p:cNvCxnSpPr>
              <a:stCxn id="164" idx="0"/>
              <a:endCxn id="160" idx="2"/>
            </p:cNvCxnSpPr>
            <p:nvPr/>
          </p:nvCxnSpPr>
          <p:spPr>
            <a:xfrm flipH="1" flipV="1" rot="5400000">
              <a:off x="3304440" y="2426760"/>
              <a:ext cx="547560" cy="1915200"/>
            </a:xfrm>
            <a:prstGeom prst="bentConnector3">
              <a:avLst>
                <a:gd name="adj1" fmla="val 499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0" name="_s2063"/>
            <p:cNvSpPr/>
            <p:nvPr/>
          </p:nvSpPr>
          <p:spPr>
            <a:xfrm>
              <a:off x="3715200" y="2016000"/>
              <a:ext cx="1641240" cy="109440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400" spc="-1" strike="noStrike">
                  <a:solidFill>
                    <a:srgbClr val="000000"/>
                  </a:solidFill>
                  <a:latin typeface="Arial"/>
                </a:rPr>
                <a:t>Opera epic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2064"/>
            <p:cNvSpPr/>
            <p:nvPr/>
          </p:nvSpPr>
          <p:spPr>
            <a:xfrm>
              <a:off x="1800360" y="3657600"/>
              <a:ext cx="1641240" cy="109440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400" spc="-1" strike="noStrike">
                  <a:solidFill>
                    <a:srgbClr val="000000"/>
                  </a:solidFill>
                  <a:latin typeface="Arial"/>
                </a:rPr>
                <a:t>Au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2065"/>
            <p:cNvSpPr/>
            <p:nvPr/>
          </p:nvSpPr>
          <p:spPr>
            <a:xfrm>
              <a:off x="3715200" y="3657600"/>
              <a:ext cx="1641240" cy="109440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400" spc="-1" strike="noStrike">
                  <a:solidFill>
                    <a:srgbClr val="000000"/>
                  </a:solidFill>
                  <a:latin typeface="Arial"/>
                </a:rPr>
                <a:t>Nara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2066"/>
            <p:cNvSpPr/>
            <p:nvPr/>
          </p:nvSpPr>
          <p:spPr>
            <a:xfrm>
              <a:off x="5630400" y="3657600"/>
              <a:ext cx="1641240" cy="109440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400" spc="-1" strike="noStrike">
                  <a:solidFill>
                    <a:srgbClr val="000000"/>
                  </a:solidFill>
                  <a:latin typeface="Arial"/>
                </a:rPr>
                <a:t>Personaj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2639880" y="1290600"/>
            <a:ext cx="3794400" cy="3352680"/>
            <a:chOff x="2639880" y="1290600"/>
            <a:chExt cx="3794400" cy="3352680"/>
          </a:xfrm>
        </p:grpSpPr>
        <p:sp>
          <p:nvSpPr>
            <p:cNvPr id="166" name="_s15379"/>
            <p:cNvSpPr/>
            <p:nvPr/>
          </p:nvSpPr>
          <p:spPr>
            <a:xfrm>
              <a:off x="3686040" y="1886040"/>
              <a:ext cx="1702080" cy="17017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15380"/>
            <p:cNvSpPr/>
            <p:nvPr/>
          </p:nvSpPr>
          <p:spPr>
            <a:xfrm>
              <a:off x="4311720" y="1290600"/>
              <a:ext cx="45252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5373"/>
            <p:cNvSpPr/>
            <p:nvPr/>
          </p:nvSpPr>
          <p:spPr>
            <a:xfrm>
              <a:off x="4246560" y="2857680"/>
              <a:ext cx="1701720" cy="1701720"/>
            </a:xfrm>
            <a:prstGeom prst="ellipse">
              <a:avLst/>
            </a:prstGeom>
            <a:solidFill>
              <a:srgbClr val="00b200">
                <a:alpha val="50000"/>
              </a:srgbClr>
            </a:solidFill>
            <a:ln w="468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5369"/>
            <p:cNvSpPr/>
            <p:nvPr/>
          </p:nvSpPr>
          <p:spPr>
            <a:xfrm>
              <a:off x="5981760" y="4218120"/>
              <a:ext cx="45252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5374"/>
            <p:cNvSpPr/>
            <p:nvPr/>
          </p:nvSpPr>
          <p:spPr>
            <a:xfrm>
              <a:off x="3124080" y="2855880"/>
              <a:ext cx="1702080" cy="1701720"/>
            </a:xfrm>
            <a:prstGeom prst="ellipse">
              <a:avLst/>
            </a:prstGeom>
            <a:solidFill>
              <a:srgbClr val="703dff">
                <a:alpha val="50000"/>
              </a:srgbClr>
            </a:solidFill>
            <a:ln w="468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5371"/>
            <p:cNvSpPr/>
            <p:nvPr/>
          </p:nvSpPr>
          <p:spPr>
            <a:xfrm>
              <a:off x="2639880" y="4218120"/>
              <a:ext cx="45252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5219640" y="3716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9:31:58Z</dcterms:created>
  <dc:creator>lau</dc:creator>
  <dc:description/>
  <dc:language>en-US</dc:language>
  <cp:lastModifiedBy>lau</cp:lastModifiedBy>
  <dcterms:modified xsi:type="dcterms:W3CDTF">2008-01-16T20:03:29Z</dcterms:modified>
  <cp:revision>3</cp:revision>
  <dc:subject/>
  <dc:title>Slide 1</dc:title>
</cp:coreProperties>
</file>